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84-DCE2-4C91-A099-74CD8BEC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BCF-A3C0-46B5-978C-DF1A1CD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6BE-A155-4877-94A8-BD05D29D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8CA-F5FD-4CB0-8526-E706475C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CA08-61DF-4873-A674-B9352CCD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C5E8-506F-4A66-87E2-9403B0E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6FF0-8152-43C2-9853-62305FA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013-5405-4090-BAB5-5E0E367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AEFA-7FEC-4E53-B63F-84157911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4F8-9DA6-4BC6-9371-112F067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75F-E455-47C2-86C0-101B8C5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59E-3A28-4AB0-BDAA-301EC2C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DDF-B8B4-44AD-907D-439910FB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0C5E-E773-4C7E-B6AD-2139029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2A6-1020-4A26-93A6-36569623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F22-B439-4B36-8B39-74093E5A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734F-7CD1-4298-8944-355A5AC2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724-0E05-4B93-AFE4-8C95F64F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B9C-8784-4F36-9F66-7FC812C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623-2E59-4263-8806-E80F7956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423-2245-4F3B-98FF-A03DA068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A25-F523-4930-8957-98815CF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58F-EE89-4512-9F78-2965E70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BCA-5DC5-40CB-ABB1-94BD66D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74D-68DE-40CF-A765-BA9B8ADE4F5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1545-13C7-45FB-AABC-E94D990A087C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xtile"/>
              </a:rPr>
              <a:t>Introduction to iPho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"/>
              </a:rPr>
              <a:t>iPhoto</a:t>
            </a:r>
            <a:r>
              <a:rPr b="1" lang="en-US" sz="2800" spc="-1" strike="noStrike">
                <a:solidFill>
                  <a:srgbClr val="000000"/>
                </a:solidFill>
                <a:latin typeface="Baskerville"/>
              </a:rPr>
              <a:t> 6.0 for Begi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Pゴシック"/>
              </a:rPr>
              <a:t>Created by The Office of Media and Educational Tech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S Pゴシック"/>
              </a:rPr>
              <a:t>Updated 07/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2629080" cy="253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vert Fi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ower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lide show can become  image files by choosing File&gt;Save As&gt;Format&gt;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he slides in the presentation will be saved on the desktop in a fol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der can be dragged in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mpor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57600" cy="337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5664240" y="4140360"/>
            <a:ext cx="533520" cy="228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21080" y="3262320"/>
            <a:ext cx="1293840" cy="93348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2480" y="3289320"/>
            <a:ext cx="1801800" cy="1617480"/>
          </a:xfrm>
          <a:prstGeom prst="line">
            <a:avLst/>
          </a:prstGeom>
          <a:ln w="349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zing Libr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90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9880" y="1044720"/>
            <a:ext cx="8076960" cy="53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zing Libr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Pane to organize and create your albums, books, slideshows, etc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76720"/>
            <a:ext cx="2209680" cy="1904760"/>
          </a:xfrm>
          <a:prstGeom prst="rightArrow">
            <a:avLst>
              <a:gd name="adj1" fmla="val 50000"/>
              <a:gd name="adj2" fmla="val 290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5562720" cy="366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538200"/>
            <a:ext cx="79549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for Library Organ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440" y="14842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view with image titl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by film ro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View &gt; Film Rol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View&gt; Tit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batch of imported images is a film ro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apse the film rolls to save scrolling time.  Holding down the Option key while you click on a triangle closes all the rolls instant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itle the roll now or when you import the photos and set the d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68880" y="2050920"/>
            <a:ext cx="1447920" cy="14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60840" y="3678120"/>
            <a:ext cx="3529080" cy="15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32240" y="5742000"/>
            <a:ext cx="3911760" cy="71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614920" y="3524400"/>
            <a:ext cx="547920" cy="5475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0760" y="5694480"/>
            <a:ext cx="547920" cy="5475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leting Picture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19360"/>
            <a:ext cx="54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lete a picture from the library, select the picture, and then hit the Delete button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cture is not complet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ed yet. It is moved to the Trash on the Source Pane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mpletely delete a picture, go to: iPhoto &gt; Empty Tr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a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message bo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56040" y="4910040"/>
            <a:ext cx="3492720" cy="11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39040" y="1851120"/>
            <a:ext cx="1574640" cy="1092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46880" y="3178080"/>
            <a:ext cx="2060640" cy="112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to Edit Photo 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library, it is easy to edit the title and add/change a photo’s ra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bottom of the Source Pane is a mini tool bar: Click on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formation) butt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8520" y="1600200"/>
            <a:ext cx="1481040" cy="49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562720" y="5257800"/>
            <a:ext cx="1676160" cy="1371600"/>
          </a:xfrm>
          <a:prstGeom prst="uturnArrow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rcRect l="0" t="8889" r="0" b="11667"/>
          <a:stretch/>
        </p:blipFill>
        <p:spPr>
          <a:xfrm>
            <a:off x="3903840" y="5667480"/>
            <a:ext cx="1090440" cy="66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733400" cy="609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61722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ips to Edit Photo 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formation) button is pressed, a box appears  in the Source Pane, providing information about the highlighted phot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4800600"/>
            <a:ext cx="1828800" cy="457200"/>
          </a:xfrm>
          <a:prstGeom prst="leftArrow">
            <a:avLst>
              <a:gd name="adj1" fmla="val 81944"/>
              <a:gd name="adj2" fmla="val 10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486400"/>
            <a:ext cx="1828800" cy="533520"/>
          </a:xfrm>
          <a:prstGeom prst="leftArrow">
            <a:avLst>
              <a:gd name="adj1" fmla="val 72028"/>
              <a:gd name="adj2" fmla="val 886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rcRect l="0" t="8889" r="0" b="11667"/>
          <a:stretch/>
        </p:blipFill>
        <p:spPr>
          <a:xfrm>
            <a:off x="3429000" y="1903320"/>
            <a:ext cx="853920" cy="52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ows users to edit photos sev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 Red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y follow a few easy step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fore you edit, decide if you want to keep an original. Go to Photos&gt;Duplicate. Editing a photo changes it in every album; make a duplicate for pract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375000" y="2741760"/>
            <a:ext cx="4319640" cy="50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ta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the Pic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the orientation of the image. Click the Rotate button (or hold down the Option key) until the image is correct. You may select and rotate multiple images at o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0760" y="4470480"/>
            <a:ext cx="1523880" cy="76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6226200" y="4506840"/>
            <a:ext cx="758880" cy="847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45640" y="1665000"/>
            <a:ext cx="60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dit a photo, either double click on it or click on the edit button on the toolb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it View opens a larger photo in its own wind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3321000"/>
            <a:ext cx="488772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730920" y="1943280"/>
            <a:ext cx="1524240" cy="76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446960" y="1967040"/>
            <a:ext cx="758880" cy="8474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ing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ing images in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eting pict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ing photo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photo edi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ng albu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ing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he toolbar at the botto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8305560" cy="9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V="1">
            <a:off x="1066680" y="3276360"/>
            <a:ext cx="533520" cy="15238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952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ut out unwanted scenery in ima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590560" y="3200400"/>
            <a:ext cx="609480" cy="1752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952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anges the size of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4952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-Ey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ick button and hold over each eye to get rid of red-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038120" y="3200040"/>
            <a:ext cx="1600200" cy="1600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1735200"/>
            <a:ext cx="8534520" cy="95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 flipV="1">
            <a:off x="2128680" y="2262240"/>
            <a:ext cx="1095480" cy="860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2160" y="312408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ouch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xes minor problems.  Blends together the colors near the cross-hair.  Use small short strokes.  Use to eliminate blemishes, spo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533840" y="2176200"/>
            <a:ext cx="154080" cy="941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1320" y="3100320"/>
            <a:ext cx="32148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hance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utomatically adjusts color and contrast to improve image quality; works well with photos that are too dark and ones that lack contras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diting Pho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441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recasts photos in black and white, sepia, and other tones; five effects adjust color and three adjust the bor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7692840" cy="8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505480" y="2819520"/>
            <a:ext cx="318276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 flipV="1">
            <a:off x="2133720" y="2361960"/>
            <a:ext cx="2819160" cy="1066680"/>
          </a:xfrm>
          <a:prstGeom prst="line">
            <a:avLst/>
          </a:prstGeom>
          <a:ln w="381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ating Albu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5840" y="1682640"/>
            <a:ext cx="57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bums are used to organize pho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bums appear on the Source Pane after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reate an new albu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File&gt;New Album&gt;Name the albu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the bottom of the Source Pane and click on the plus sig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96000" y="1644480"/>
            <a:ext cx="1968480" cy="28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729480" y="5057640"/>
            <a:ext cx="855720" cy="60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ing Pictures to Albu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pictures – Go to the Library, command-select the pictures, and drag them into the album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30560" y="3225960"/>
            <a:ext cx="4986360" cy="3408120"/>
            <a:chOff x="2230560" y="3225960"/>
            <a:chExt cx="4986360" cy="340812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2230560" y="3225960"/>
              <a:ext cx="4986360" cy="3408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 flipH="1" flipV="1">
              <a:off x="3198600" y="3805200"/>
              <a:ext cx="903240" cy="370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nging Photos in Albu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drag the pictures to arrange them in any or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87520" y="3083040"/>
            <a:ext cx="4578480" cy="155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387520" y="4829040"/>
            <a:ext cx="4633920" cy="146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ORTANT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: Photos in the album “refer” to the original photo in the library.  If you delete a photo from the album, it is still in the library.  If you delete a photo from the library, it is removed from the alb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lbum Op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n photos are added into the album, users can crea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ide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porting Im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628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xport images from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various 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ight the photo or several photos, click File &gt; Export &gt; Choose appropriate size (full size or scale image) &gt; Expo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62360" y="2117880"/>
            <a:ext cx="3810240" cy="28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s of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in the Classro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n conjunction with eKits, a compilation of images pertaining to a curriculum topi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tory using the Book feature, relating to curricular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 slideshow presentations of a topic by setting them to mus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a card to send to a literary character that describes a setting, mood, or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chnology Standards for School Administ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2.0 Teaching a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acher Technology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5 Integrating technology into curriculum an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yland Technology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f67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Verdana"/>
              </a:rPr>
              <a:t>Standard 3.0 Technology for Learning and Collab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r More Information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more details go to the documentary repository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dia and Technology Information Fold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 your Office of Media and Technology Representa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y use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iPhot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otivate and engag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ifferentiate learning for various types of lear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real-world conn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 technology 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orting Im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iliti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Digital Camer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reen Sh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Imag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vert Files into Imag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camera to USB Por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recognize camera and how many photos to import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it a Roll Name and Descrip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Delete Items from Camera after importing if desired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s are now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Pho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brar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77240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666880" y="3505320"/>
            <a:ext cx="1447920" cy="1600200"/>
          </a:xfrm>
          <a:prstGeom prst="downArrow">
            <a:avLst>
              <a:gd name="adj1" fmla="val 50000"/>
              <a:gd name="adj2" fmla="val 2762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5562720"/>
            <a:ext cx="144756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4114800"/>
            <a:ext cx="1447560" cy="1600200"/>
          </a:xfrm>
          <a:prstGeom prst="downArrow">
            <a:avLst>
              <a:gd name="adj1" fmla="val 50000"/>
              <a:gd name="adj2" fmla="val 2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4495680"/>
            <a:ext cx="838440" cy="1295640"/>
          </a:xfrm>
          <a:prstGeom prst="downArrow">
            <a:avLst>
              <a:gd name="adj1" fmla="val 50000"/>
              <a:gd name="adj2" fmla="val 386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reen Sho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screen shot to capture an image found on the Internet or on your comput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create a screen shot, click and hold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apple+shift+4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 crosshairs icon will appear. Click and drag the icon to highlight the content from which you want to create an ima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file with the name Picture 1.png will appear on the desktop.  As you create more screenshots, the file name could be Picture 2.png, Picture 3.png, et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import the image drag it onto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iPhoto’s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 window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3800" y="29718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 Im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 from Google or other webpages can be obtained easily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a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image desired; the larger the file size, the bet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view the full size im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ursor on the image and click control and the mo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on Add Imag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ibrary and the image will appear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h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ibr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8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3:03:18Z</dcterms:created>
  <dc:creator>Howard County Public Schools</dc:creator>
  <dc:description/>
  <dc:language>en-US</dc:language>
  <cp:lastModifiedBy>Mel  McNamara</cp:lastModifiedBy>
  <cp:lastPrinted>2008-07-09T13:49:26Z</cp:lastPrinted>
  <dcterms:modified xsi:type="dcterms:W3CDTF">2009-03-11T14:56:30Z</dcterms:modified>
  <cp:revision>69</cp:revision>
  <dc:subject/>
  <dc:title>Introduction to PowerPoint</dc:title>
</cp:coreProperties>
</file>